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453-816B-40EC-9728-FC6D0D01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AE1-8417-482D-8EAF-A3A894A3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9C6-BEE2-4181-BBCA-849F6D2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E78-F20D-42A5-9E0F-01E06D62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1D1-717C-4FAD-A26F-C0819F5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E53-BDC6-4116-A5FD-00B503B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EF5-31DB-48EC-961A-272D5C31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FF7-BA0E-4443-9ECE-FE7AD6E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DCE-4B4E-413B-8309-2C9B8E4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A84-C436-4520-983B-8AD8EB5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B7D-8734-4FF3-95BB-4C4088D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7B4-0148-4AB7-B215-B8DBF3E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792D-CDD4-48FF-B38F-4FCEADCD6E96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65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8840" y="4859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ritz &amp; 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467160" cy="404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836720" y="587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nssdc.gsfc.nasa.gov/image/planetary/jupiter/jupiter_i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llgeme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159552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Mas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,899 · 10^27 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igung Rotationsachse: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,13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derische Umlaufzeit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1,86 Jah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mperatur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a. -10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chte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,326 g/cm³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urchmesser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~143.00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2328840"/>
            <a:ext cx="52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grundschule-im-taunusviertel.de/ordner/schuelerseiten/wissen_und_projekte/unser_sonnensystem-Dateien/sonnen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49147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asr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ster K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üss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llis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sserst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mosphä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432108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51280" y="4797360"/>
            <a:ext cx="41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abenteuer-universum.de/plan/jupiter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nde &amp; 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R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ss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63 M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 großen galileischen 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kleine zum Teil nicht benan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3789360"/>
            <a:ext cx="395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789360"/>
            <a:ext cx="722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upload.wikimedia.org/wikipedia/</a:t>
            </a:r>
            <a:br>
              <a:rPr sz="1000"/>
            </a:b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commons/thumb/2/29/PIA01627_Ringe.jpg/480px-PIA01627_Ring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ondere Merk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roter Fl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hr starkes Magnetf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226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198900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spiegel.de/images/image-69658-videopanoplayer-abc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291360"/>
            <a:ext cx="4340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stass.de/alex/astro/grafiken/jupiter_magnetfeld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08:23Z</dcterms:created>
  <dc:creator>muster</dc:creator>
  <dc:description/>
  <dc:language>en-US</dc:language>
  <cp:lastModifiedBy>muster</cp:lastModifiedBy>
  <dcterms:modified xsi:type="dcterms:W3CDTF">2011-11-09T13:51:51Z</dcterms:modified>
  <cp:revision>7</cp:revision>
  <dc:subject/>
  <dc:title>Jupiter</dc:title>
</cp:coreProperties>
</file>